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EDF-9058-4E0D-952A-C029247A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912-1F63-411A-95F7-00BC0898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98B84-124B-453D-BC82-522BF50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0B59E-3572-481C-AEA8-BB06D81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467C2-652B-4D77-8B9D-0894600B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7F5E4-393B-48A5-A985-EA61939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DE48B-57F1-477E-9598-FD14111D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9567D-B078-4119-8BA2-08DB0023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E93F9-2A24-4E3D-B099-A606688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E1B72-EC73-49C6-A2B7-2E01822D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8FDFF-4CE3-425E-BFC5-6BE9C2E9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65A8-FBE1-473E-9885-60EF950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7E0-003A-4C1B-8AE6-16CAA47B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44CD-97B0-4E29-98A7-E4A195FC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143FB-F82D-4DA1-B3C6-36B2E389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4AD2D-1938-49ED-9026-B2633763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51F52-B430-4FF0-ADB7-62CAFD7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48B9C-0F2A-4318-848C-14C3E9A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F3EA6-FF96-4B88-B1E7-030D158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1045-391E-4952-A92C-D16F71E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F2497-830E-45B2-9D41-0BF7C0F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F6463-DEC0-4203-815E-E50D6036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27C60-93BA-4457-BE98-35A5E93F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281-903A-4242-98E1-1B7FA5C4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B2CBD-B172-4F72-886E-69F1A7EF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107D-AE96-4120-B68F-E59E7BDD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B6626-6775-4F07-91E9-090EB8EA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F918C-B143-489F-A965-BC0677A0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9FDE0-1EE0-4B01-8CA2-079E189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2F819-3A0C-441A-9734-24FB40C0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DD659-5921-4F18-A764-978AFA09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58219-998D-4829-A99D-3FD0C03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6DFE-57E5-4B47-AFEB-BEA600A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37BC-7912-4D02-8BD5-71200A2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489A-5174-4050-9F78-34BBA295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34E94-8540-4F7C-806B-4152FD8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C960F-D331-4884-A4F6-102838A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91CF0-A80F-4C6C-8590-3F61B80C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10443-AAA1-484D-88C2-EA298ED1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F6132-1050-4322-B004-C184550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D182D-7F70-4777-A4FA-24E941B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1053-93D9-496C-B68E-7C0B26F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DC5D6-4841-4F85-B5BD-6A31086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F1CFC-C2F0-4629-B3F1-A545D226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14581-BE83-470C-A0AC-91482C4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7F4-6B95-4746-B31A-05E37E83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79F23-373D-4B50-A232-C65C366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B3542-3EBE-4D41-AA6F-A900597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EACB7-39DF-48EA-A500-2886907C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96B0A-44DF-4AA5-97EF-2169EB6D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BFE1A-0F8A-4009-BE24-B541573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89BC1-ECC6-4ED1-A158-843A9195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45334-0EC6-4572-8E2F-A88A5ED2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15710-FCF1-48C9-BD99-BEB21D60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7293F-A0F3-4928-95A7-A87A625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9A970-A7F6-42B8-AC66-F45008E9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8596-3772-4699-9841-8A25B7DA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6599F-5A2B-4057-AAC6-B8C8A98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17D7B-9F5E-4F54-A79F-0F81902E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58D82-F631-451A-89CA-4AA68C63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3D365-DE64-4E9E-A0AE-9D4196B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75440-0886-439E-A7A9-649BD0CA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E7BE7-90BE-4D53-B5E4-0B367999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30458-105A-46D0-91E2-D368F52F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D414C-0C4F-45F2-926A-828848BE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2361B-6A39-48CE-9DA7-13ACC116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09A9D-A272-4C75-8BAB-946D43D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F648-CBEC-4243-B388-BEBF6B0E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4324A-D922-453C-886C-E1FA33F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1B260-5D65-4300-9AE4-90FCE90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D783A-C32C-46D0-B85B-57B3BCF6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1C95D-C4CA-4935-95EC-EC3C546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FC380-E83D-4B5B-B92B-5B0D6DE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F0476-8313-4D54-A724-77F282B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FC526-8A36-4804-BDBC-5196C38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9CEBD-DAB1-4B5D-B9CB-1487F6D9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8A83E-6BDF-4DFE-A10A-D0405BA6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2E47F-B72E-441C-B56E-841BFF25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D92-C3CE-4093-BC4A-CFEF94F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2DC38-7A14-41AA-B4C1-CEF220E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37084-2FB6-495A-B2D4-78D60C3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53C3F-B935-4A2D-9E9A-E39E366D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E7DEC-A9F1-49B5-B401-C2339271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B7ED7-F37C-4456-AE27-62CF8DF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1F798-11A3-4FF9-87E5-8654CF8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45CE4-D3EE-4C95-8596-CD6FBB8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206DD-90AF-4254-80EB-9DA5846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C657C-D830-4BF5-AF6B-D5440368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7874F-D609-46D0-B659-60EA8CBF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81A-A985-4FC4-BCF3-5A254DB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C2809-C5C7-42E3-B5BF-8C48E106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A44D6-3480-47F5-8097-FA0D5ACC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14507-C7C9-4522-964B-F346B3E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C7F1C-74F6-4EB3-99ED-44A7CD73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912DE-4CA6-4AF1-8657-1D7EEF0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FDDBC-21A0-479D-9608-4D8405C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A571A-E1D9-4AF6-98C0-185DDE9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D27E1-72A9-40D5-9EAA-F5B7704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42C3D-9775-441B-ACE3-AB1425D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4CA00-1633-4DC1-BE7C-C7A7792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474-B2D3-4ADD-9703-846D25E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2E6EE-9F19-4AA3-A13B-C16CA4A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3293F-64BE-4F6A-B6F7-F355B5E5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D23D7D-42B9-454A-B803-56A06D4C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19573-5DCB-44DF-A3A0-5AFBCB01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4B8D4-DF34-4946-A67A-3EDB225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A2FB0-8318-46CA-A1C8-87E242F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9C249-2B10-4669-8277-1B5846B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F6516-9493-4CF3-846F-A20EE00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5AE91-B5D8-46A1-A87A-F80689E0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281FE-9147-4B8B-8D1D-78F834A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C93-226D-4FCB-8021-CAE61EC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59BD-BBD6-4401-B06A-A2831AB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4EEA8-8FEC-4D14-A4F0-2B2721A8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28C95-B3D3-40C7-8783-2D443EB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B459B-3D1B-480A-BC71-7EDC10B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A8F49-6C39-4D30-9A0C-77E5AE26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951C1-E298-49A0-BA6B-28C92E72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7353B-1787-412D-8859-E3772BA6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D2281-A185-4CDB-A30E-0E603912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EAC74-AC4A-4ACA-A2FA-71F54E9C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B41C7-0604-45ED-9BDD-658E69A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6016C-A8DE-4B04-A831-AAC1338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128-457A-46BA-8C89-0101DF1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4A3BA-3DF2-4582-862D-75CD7D3C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83F63-5BB0-4B29-BE31-6FDE6DA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8C4B7-6A87-494A-A623-D94A6E8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BAFD3-203B-4773-A943-4908EBC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65162-C65F-43F1-8042-8CEB214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BFDDA-4278-46D0-91CA-F529CE2D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0AC63-B48B-4348-9E7B-6FAD1639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7B6E2-FA97-44AB-8299-F887A978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BB9B9-4A58-4E10-96B7-0C8B1222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D9B48-FE1D-425B-8D9D-9009AF92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1B5-1B85-4040-B740-CB7DB42F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77474-37B7-45D2-8337-B2CF23D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B63C0-9236-4AC8-8A2E-591DA646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42DF4-9104-4F24-B25C-B94629A3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6B9E9-065A-4F45-BDE6-11D802D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CA212-C154-44B4-9487-FDAEB71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BE2EE-C1DF-4418-ACA3-3D075954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8FE09-C9C3-47D6-8D26-F3394CC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CF3075-E332-4A02-871F-F3798DEB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468DB-EA78-41ED-8098-A608F85D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1CAAA-3238-4FE9-87C4-5D52CE18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598-BB4B-41FC-BED7-EBF2853D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D35CE-D456-42FB-ABEB-85455874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F8F69-866A-4211-84B6-7CEA1E8E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2A8AD-DBA0-4D40-BE0A-85A2ECF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06E5A-CC56-4209-810E-1D1EDE6E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3E78B-2989-4F43-994F-AA908AFB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1377A-DD36-4B67-AA9D-1D479362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ED658-524D-45CA-97A3-3656B07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C4073-F460-4879-B379-B2CC9BC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FEA91-6EF5-40E5-95F4-363EE73D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52B7F-89AA-4DE4-89C5-72540F14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A76-3815-457C-913F-7E47C1A7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70387-F9D2-49C4-8C80-4D5B9450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89085-BD50-423D-832E-186E0364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4C9B9-424F-48CE-B0B9-DBADF2DF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169D2-06EE-4F48-BA7C-10695D64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C94D4-642F-415A-8F60-A7AD342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7565F-6D0B-4C4B-B40A-C10AEBE1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2AB48-B316-4C65-8545-118B9EE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3F57F-3CC4-495B-AAAC-3500207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29464-67E9-41AF-B222-3BD32E8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F913C-64F4-4C62-99BF-336D697A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59A7-075B-4E06-972C-74A29DD1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D23DC6-8532-4E18-A99F-7BFC7567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AF8AA-FD45-4D71-AA9B-306987CC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F941E-8F68-4BB1-896F-8DAEEF13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8AB4C-C1C5-4BE5-A28B-BC6C11D7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47B11F-20B1-4256-81DA-0988F77C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53FEB1-A2AC-45F9-BE86-0852A5D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1A16F-3F32-47D4-BD9F-09F877D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A90DC-C0BF-437A-A1DC-610561C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1F66F1-0209-4657-A795-609A7EA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DFA4C-A1C5-497D-9456-463FDB5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2830-397A-428A-8BB6-A85479F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B3F23A-CFDA-4EF1-B980-6B25A74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36787C-482B-4AFA-9284-7075E33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385486-A9DF-4883-B1F5-A88B075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CA2FB8-249F-417B-B3D4-E60456EE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87E010-3A35-4E5F-8145-0355CD1F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725478-D38B-47CE-8959-FE898AB0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5F9F00-FAD5-4D77-B463-E2FB1A4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1CF320-01C6-4446-89B4-7D0B2579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B83B4F-3EAD-4EBB-AE5C-E78307C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5D0A1-1E12-4966-B1F3-A0B7ED33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2CDD-8F7B-464C-938A-C253550E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BDCB2B-53F3-46A4-B63A-ADD24DA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52B5A-6F65-4EA4-8D76-365A34C6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C56B56-4F95-4686-931D-A661D41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9A94D6-DBAE-467F-8DD2-C4E1F2E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8C0599-7E08-4205-8CCB-C61E474C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9F8A6F-6D2E-43DE-9B96-8F7F9A5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D8F5B3-E89A-4C2E-91DC-32602610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E579-1361-49E7-B9AD-A24DFE6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7478-DBDC-492E-99F2-40A4C227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8FB-3D3E-42E5-AA4C-AFB06DF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EB7C-2435-48E3-A25E-D192E0EA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929C-015A-4134-8B36-1F393B9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544F-B211-43CB-9EA8-4B0CD5D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0C47-6055-4842-99CE-79686DF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2575-EF1A-47CA-B644-78E7995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C317-9525-4B4D-BCDC-6CC3BDEE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927C-328D-4E9B-989D-434DFDC7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D265-AB1D-4BE1-84B9-A4F46F1E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7B15-D23A-41C5-B4EB-0BDF8FB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2190-1A1E-43ED-B57A-0CBBD186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2BF-673F-4F98-811B-0194387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1BA96-22F0-4258-924D-0B3ECE61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F32E-52FA-4B70-B093-8203A648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14CD-A9B3-441E-801C-4AA334E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6A42-E4C5-41A2-88D3-2F3134C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5724-C8BE-4608-B9EC-81CDCE1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E5BC-DEE7-4F81-B73B-9A96FBF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6F90-C16D-4BEF-B308-BB1DC43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6129-BEA2-4091-979B-A4E7E0E9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5850-0D66-477B-BC85-98AF5AB8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024FD-1247-4452-A70B-8533D37F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0F8-4B76-4406-8D9C-C8AE113B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B50B-4BC2-4C3D-9EC2-182CF67B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FEB2-20EA-4DD7-B24E-401F7EDB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D10F-4D8E-493D-8CDE-2BC7D11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EFD6-584E-4CD0-B5CB-8A7471E6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5EFC-35B6-48A5-9B6F-17AF3DF1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7552-60C2-4826-B34A-16E8F04A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10F1-9879-4B55-A437-661F2A3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1503-ED14-4DD6-B55B-C2C92F28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EFBD-31BF-4E33-9079-22BE110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8C55-AA1E-4628-87F0-DB4E9C91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ED1-C576-4C2C-ABAD-11835F59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6DA7-13B3-44FA-999F-A974FB58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A87A-D0F6-4FFE-9D97-578FD84D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2C31-E3E5-4EDF-BAE7-43407E45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842D-C337-4D57-A340-117F7C0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C83C-9EE8-4530-992C-9E1AF86C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F009-AE47-4CA2-BF8A-436F8AD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DF41-284D-41E5-981D-300B61A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BBD6E-A24A-4518-A7F9-DE5C5FFE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B7E4-9354-4D1E-BC47-722C0E3E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A0C2-3094-4B8A-A18A-69078E2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1DA-C4FC-479E-AB7C-4DD23ED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672E-FECD-4716-BEDF-1FF3F4A6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9117-C8A6-4C98-B336-BF87311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D68E-B442-4E96-AAA2-6BA084B2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3B5A0-71ED-43E8-8749-59BA2875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D2D5F-EA45-49B8-8D30-7A447F4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380E4-BAA1-4106-8E8F-D7024AFF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0046-4BA7-4FA1-8F73-A05DBA3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5543A-8542-48DE-A9BE-9539DDE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946C-3F25-4B7C-87F5-E9FD5C7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76ED9-9641-4078-8CEE-B10F248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693-8108-4E51-888F-FB2E34E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47CE-A36F-44D4-A2AF-ECFF96F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299F8-0142-4AC4-BD17-8A9CAC0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500F-A0B4-4127-9F34-819963F9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141A0-14C2-4170-BD69-8980C6A9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6893-2C43-42A2-8235-831B47CB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B9C9E-F348-41E0-BF3D-08AB1370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F7E9-33C5-4D4D-9B3A-5AA01DB8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0BCF-8CDE-42DE-B1BF-BEF3F97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2575-FF4F-4F19-8ECA-08F40454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3EBB8-D226-4B2C-BE00-47BA6F4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198-B5C9-4B16-90B8-5DB5398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95C1-8644-4A93-8E8F-428C2ACE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9FCD-CF1C-4786-AA88-28DA064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2135-07FE-4AD2-A25F-3614565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E5C0E-6E3D-44E1-9268-DC976D5D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F50F-29B4-4013-8FF6-8C205DC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A77A7-D0C0-40CF-BD22-406F85B9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D0098-B0A8-4A84-AB9C-C441EE4C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64593-A5C4-45A4-9A4A-7C0AB409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0F06C-816A-4F04-9166-F3721E71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979C-1E24-4A80-A2F3-AB0141FF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E00E-2A51-44A3-A95B-DA271D3F4D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0D3-EB78-43DF-AADA-DFFDE8E6C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660-2344-40CA-A180-DDCF38A7A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0EDC-B123-4E83-9CD3-DF15B49DD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B4BF-DDD1-496B-97D1-71B0985772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6C2-02DB-486C-8D05-A6578E1BF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68D2-7D41-45E2-B76D-ADE314FE6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731E-9B6B-4739-A61D-6AA75E3C3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A298-08C4-4B55-B984-0932F8435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F72-E62E-4CE2-B982-7FC38746C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85CF-7F1B-41B2-8C18-A87B8700D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006-8E1D-4C7A-B772-905894DF1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0B5F-87FC-48F3-BEAE-A9CF3B37F4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0333-EFB8-4735-ADF4-F1FDF3D88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B433-4871-48EB-B913-F6DFA9666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C7A9-1B0E-4390-B6DC-2942FC2C8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15C4-F9F0-4DC3-ADAA-162DA6375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18B-4EAE-4AFF-B150-C0E1D421D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E261-5FBC-4E45-A259-A9C408C88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2DB8-13D3-46C4-B910-EF5320223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866F-B393-4D40-84F8-62011406EF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A42-B385-48F0-AA22-8A010149EB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E1C8-EA39-4B89-8386-5A9512B69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E6F-F4D0-4EEF-B382-F42D02777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7E6-1539-4350-8B27-5AE6CC0F2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83E4-EAE8-4DDD-A3E0-6F77C9C11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3F7-CC8D-4D8B-B563-02938A8B5F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B346-94BF-45C0-BA41-FC4F2ED654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59D1-A2DE-465E-BC1B-38F8CFC6FE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E64A-1E9F-4FBA-82BF-D0B16C264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636-8351-4719-90DA-259925A94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73A-6FD6-4CE7-968B-79DB7F6B8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993-4477-4863-BBBE-5AEE9EE29C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1F0D-5EEE-47E4-919E-8BBE7AE932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5F8-F7DE-40BD-851F-6E7AB8C9D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C4C0-AD14-4453-99C2-841BD3429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C0E-135D-4EF3-98BF-6FCCF837CC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9425-0B6B-4842-B0E2-985220369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ED2-9ABC-4918-809C-045F0CBB5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86D-BB20-4EDF-B88C-FD4C2BA08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395-3B8E-45CA-AEC4-7E55FE135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AC43-782E-40B4-B6F2-42D220D5BE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576520" y="2890800"/>
            <a:ext cx="39909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62000" y="870120"/>
            <a:ext cx="8820000" cy="5589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395280" y="1527120"/>
            <a:ext cx="8497800" cy="4096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395280" y="2149560"/>
            <a:ext cx="8497800" cy="409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250920" y="2765520"/>
            <a:ext cx="8642160" cy="40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250920" y="3386160"/>
            <a:ext cx="8642160" cy="409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250920" y="4032360"/>
            <a:ext cx="8642160" cy="409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250920" y="4653000"/>
            <a:ext cx="8642160" cy="409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250920" y="5272200"/>
            <a:ext cx="8642160" cy="4093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9"/>
          <a:stretch/>
        </p:blipFill>
        <p:spPr>
          <a:xfrm>
            <a:off x="250920" y="5892840"/>
            <a:ext cx="8642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76040" y="914400"/>
            <a:ext cx="879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85760" y="1585800"/>
            <a:ext cx="87710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562040" y="658800"/>
            <a:ext cx="6400800" cy="374328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2" descr=""/>
          <p:cNvPicPr/>
          <p:nvPr/>
        </p:nvPicPr>
        <p:blipFill>
          <a:blip r:embed="rId2"/>
          <a:stretch/>
        </p:blipFill>
        <p:spPr>
          <a:xfrm>
            <a:off x="219240" y="4402080"/>
            <a:ext cx="8705520" cy="2381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7164360" y="5013360"/>
            <a:ext cx="1728720" cy="40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179280" y="5632560"/>
            <a:ext cx="1368360" cy="40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8172360" y="5632560"/>
            <a:ext cx="792360" cy="40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250920" y="6280200"/>
            <a:ext cx="24494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90440" y="846000"/>
            <a:ext cx="8763120" cy="55911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826920" y="922320"/>
            <a:ext cx="1873440" cy="409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4745160" y="952560"/>
            <a:ext cx="4356000" cy="409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324000" y="1585800"/>
            <a:ext cx="208728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1042920" y="2205000"/>
            <a:ext cx="5329440" cy="409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4356000" y="3471840"/>
            <a:ext cx="4537080" cy="409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7"/>
          <a:stretch/>
        </p:blipFill>
        <p:spPr>
          <a:xfrm>
            <a:off x="324000" y="4076640"/>
            <a:ext cx="1511280" cy="409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8"/>
          <a:stretch/>
        </p:blipFill>
        <p:spPr>
          <a:xfrm>
            <a:off x="4500720" y="4724280"/>
            <a:ext cx="2519280" cy="409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9"/>
          <a:stretch/>
        </p:blipFill>
        <p:spPr>
          <a:xfrm>
            <a:off x="3780000" y="5359320"/>
            <a:ext cx="3671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09520" y="1112760"/>
            <a:ext cx="8724960" cy="327492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2" descr=""/>
          <p:cNvPicPr/>
          <p:nvPr/>
        </p:nvPicPr>
        <p:blipFill>
          <a:blip r:embed="rId2"/>
          <a:stretch/>
        </p:blipFill>
        <p:spPr>
          <a:xfrm>
            <a:off x="282600" y="4295880"/>
            <a:ext cx="76183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676440" y="963720"/>
            <a:ext cx="77911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71360" y="1062000"/>
            <a:ext cx="88012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82600" y="81000"/>
            <a:ext cx="85802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7:2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